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C98D3D-1D40-495E-AA97-F33D4CE76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D83A09-DF8E-4B14-A544-6157D422F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2828B0-5A18-496F-B799-5FD4E5A7E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AF27A6-6DD9-4A66-BD8C-5EAC64EEFC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01FC5-6732-4E23-94EE-4810273D3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4902E-8F51-4089-86F5-CE5E8A756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DDAAC-AA0C-4E32-A6A0-48E8070BC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9F0D3-12E3-4BD2-A229-576B85911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54C55-E0F5-4C23-B9DE-7EFB200F8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CE09E-DCFD-42B3-BED0-F57B74FD4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603D-31A5-4BCC-AC6C-C5928FD2F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610443-BCDC-47E2-94FE-526B85F9C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8FB1F-45D2-4A22-B83A-849B382AC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C93F0-A127-4EC6-9D36-C0D2496B7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B93E0-C7E6-45ED-B62C-582C238E3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A90AD-67F6-4EAB-834C-56025CF0E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D60D9-7814-4A8D-8B2D-CA037F8AE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124D54-082F-4DC9-8551-E6765EC48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7A017-1C78-4480-94D3-F6423142C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B17A7E-CC82-44D2-87D1-18F294476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2D7852-BEFC-4418-893C-C2A82842D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A0503-9A5E-4582-B394-7D2C2F375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379A4-CA0B-4CE3-8B85-482C7B252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1FFF2-5EB5-4018-B297-63F02A1128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B4A8-214D-44A6-8494-8A8EF7146D2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E027-D763-40F0-8558-3D4F6E52A19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Tahoma"/>
              </a:rPr>
              <a:t>CULTURA ROMANĂ</a:t>
            </a:r>
            <a:endParaRPr b="0" lang="en-US" sz="1600" spc="-1" strike="noStrike">
              <a:solidFill>
                <a:srgbClr val="ffffcc"/>
              </a:solidFill>
              <a:latin typeface="Tahoma"/>
            </a:endParaRPr>
          </a:p>
        </p:txBody>
      </p:sp>
      <p:sp>
        <p:nvSpPr>
          <p:cNvPr id="126"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cc"/>
                </a:solidFill>
                <a:latin typeface="Arial"/>
              </a:rPr>
              <a:t>Examenul de bacalaureat 2012</a:t>
            </a:r>
            <a:br>
              <a:rPr sz="1000"/>
            </a:br>
            <a:r>
              <a:rPr b="0" lang="ro-RO" sz="1000" spc="-1" strike="noStrike">
                <a:solidFill>
                  <a:srgbClr val="ffffcc"/>
                </a:solidFill>
                <a:latin typeface="Arial"/>
              </a:rPr>
              <a:t>Proba de evaluare a competenţelor digitale</a:t>
            </a:r>
            <a:r>
              <a:rPr b="0" lang="en-US" sz="1000" spc="-1" strike="noStrike">
                <a:solidFill>
                  <a:srgbClr val="ffffcc"/>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7" name="PlaceHolder 2"/>
          <p:cNvSpPr>
            <a:spLocks noGrp="1"/>
          </p:cNvSpPr>
          <p:nvPr>
            <p:ph type="subTitle"/>
          </p:nvPr>
        </p:nvSpPr>
        <p:spPr>
          <a:xfrm>
            <a:off x="1371240" y="3889080"/>
            <a:ext cx="7162920" cy="175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daptat după </a:t>
            </a:r>
            <a:r>
              <a:rPr b="0" i="1" lang="fr-FR" sz="1000" spc="-1" strike="noStrike">
                <a:solidFill>
                  <a:srgbClr val="ffffff"/>
                </a:solidFill>
                <a:latin typeface="Tahoma"/>
              </a:rPr>
              <a:t>Manualul de Istorie</a:t>
            </a:r>
            <a:r>
              <a:rPr b="0" lang="ro-RO" sz="1000" spc="-1" strike="noStrike">
                <a:solidFill>
                  <a:srgbClr val="ffffff"/>
                </a:solidFill>
                <a:latin typeface="Tahoma"/>
              </a:rPr>
              <a:t>,</a:t>
            </a:r>
            <a:r>
              <a:rPr b="0" lang="en-US" sz="1000" spc="-1" strike="noStrike">
                <a:solidFill>
                  <a:srgbClr val="ffffff"/>
                </a:solidFill>
                <a:latin typeface="Tahoma"/>
              </a:rPr>
              <a:t> </a:t>
            </a:r>
            <a:r>
              <a:rPr b="0" i="1" lang="fr-FR" sz="1000" spc="-1" strike="noStrike">
                <a:solidFill>
                  <a:srgbClr val="ffffff"/>
                </a:solidFill>
                <a:latin typeface="Tahoma"/>
              </a:rPr>
              <a:t>clasa a V-a</a:t>
            </a:r>
            <a:r>
              <a:rPr b="0" lang="fr-FR" sz="1000" spc="-1" strike="noStrike">
                <a:solidFill>
                  <a:srgbClr val="ffffff"/>
                </a:solidFill>
                <a:latin typeface="Tahoma"/>
              </a:rPr>
              <a:t>, Zoe Petre, Laura Căpiţă, Monica Dvorski, Carol Căpiţă, Ioan Grosu)</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29" name="PlaceHolder 2"/>
          <p:cNvSpPr>
            <a:spLocks noGrp="1"/>
          </p:cNvSpPr>
          <p:nvPr>
            <p:ph/>
          </p:nvPr>
        </p:nvSpPr>
        <p:spPr>
          <a:xfrm>
            <a:off x="457200" y="1599840"/>
            <a:ext cx="4038480" cy="36622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Oraşul are sisteme de canalizare şi apeducte, sute de fântâni, terme, basilici, biblioteci publice, portice, străzi şi pieţe pietruit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Tahoma"/>
                <a:ea typeface="Arial"/>
              </a:rPr>
              <a:t> </a:t>
            </a:r>
            <a:endParaRPr b="0" lang="en-US" sz="1200" spc="-1" strike="noStrike">
              <a:solidFill>
                <a:srgbClr val="ffffff"/>
              </a:solidFill>
              <a:latin typeface="Tahoma"/>
            </a:endParaRPr>
          </a:p>
        </p:txBody>
      </p:sp>
      <p:pic>
        <p:nvPicPr>
          <p:cNvPr id="130" name="Picture 5" descr=""/>
          <p:cNvPicPr/>
          <p:nvPr/>
        </p:nvPicPr>
        <p:blipFill>
          <a:blip r:embed="rId1">
            <a:grayscl/>
          </a:blip>
          <a:stretch/>
        </p:blipFill>
        <p:spPr>
          <a:xfrm>
            <a:off x="4724280" y="1371600"/>
            <a:ext cx="1440000" cy="14400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32"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r>
              <a:rPr b="0" lang="it-IT" sz="1200" spc="-1" strike="noStrike">
                <a:solidFill>
                  <a:srgbClr val="ffffff"/>
                </a:solidFill>
                <a:latin typeface="Tahoma"/>
              </a:rPr>
              <a:t>Redaţi pe scurt semnificaţia următorilor termeni :</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sena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plebeu</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agistrat</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Ordonaţi cronologic următoarele eveniment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ele lui Marius</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egile celor 12 tabl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a fraţilor Gracchi</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e urmări au avu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onstituirea magistraturii de “tribun al plebei”</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extinderea cuceririlor romane în bazinul mediteranean</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odificările introduse în conducerea statului de către Cezar şi Octavianus</a:t>
            </a:r>
            <a:endParaRPr b="0" lang="en-US" sz="1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18</cp:lastModifiedBy>
  <dcterms:modified xsi:type="dcterms:W3CDTF">2012-06-19T10:53:3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